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DBEE-88B7-4774-AB04-3EFA1425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D9E2-3A19-4100-9983-011B0D36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F3E5-F6D0-4D48-99A7-949B190E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5E8C-C6AB-423F-AEF8-C8215D0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738-FDC9-47AF-9123-42F80913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B11-558C-4FF2-8E0F-8339EEE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EFF-2667-44AE-A6C9-39A0DB2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1236-BED7-431D-87CE-3DBD858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154B-64D6-4458-B34E-3159AA97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308-3513-46A9-B1CA-76B6DE5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914-7862-4A85-AB37-B3168E0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5A1A-94D1-4264-A9B2-60169439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424B-1BE2-47C1-8873-4FDB6BAC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A1F4-18F1-46CB-8547-BDA8078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31E-CFCB-443D-9D32-C65337F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455-E4DC-4D89-8E7D-938FC83A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AB3-5C4C-4F83-B68B-E58223D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F586-4621-4F21-A5C5-FF4820F0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26CA-425B-417E-985F-2394589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AC29-045E-489A-A7C6-B54EE9C6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1762-21BC-4473-8771-8408B7A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B034-6792-4C8C-85B0-EB0CF9D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753D-2F44-4E2D-AFA1-74A5849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570C-8F6A-4E64-A39C-7F4C3F35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7526-CD5F-4943-8B42-2225558668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4C82-3B7A-42F3-A102-2AEF4E61968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12080" y="1040760"/>
            <a:ext cx="768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1(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роди, братски племе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вси страни на земний шар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мирено склонете чел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Бога, общий Господ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34800" y="918360"/>
            <a:ext cx="8721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ам, по чудо, от пръст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 образ Свой ни е създал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нас, за откуп от смърт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любимия Си Син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 да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63720" y="294840"/>
            <a:ext cx="93542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ладее Той с предвечна вла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пита с бащинска любов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благият Му бащин глас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фар е за нас въ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365040" y="918360"/>
            <a:ext cx="9979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жествен, благодарствен хим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еем всеки ден и час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езици разни, с дух еди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хвалим Тебе, Боже наш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6-30T06:33:23Z</dcterms:modified>
  <cp:revision>7</cp:revision>
  <dc:subject/>
  <dc:title>Slide 1</dc:title>
</cp:coreProperties>
</file>